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AA9-F6B1-440F-92B1-45C465A0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907-A3B3-4765-897E-66BE64C3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0C6-B054-4A2B-9575-6B3927FA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E46-C870-4666-821E-203BAE4B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2B9-D2DE-49C9-B200-592F203D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3E8-0A9F-44D7-BEB8-F5EE76D0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528-9CB6-4B23-B7EE-18C1080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88E-869F-4B4F-AC86-9C5C24B6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3A3-FEFA-487D-8444-36A77792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2AD-30B1-4EC7-84AA-7C4117F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F55-0E0F-46BC-B93D-8BB589A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B5A-7CEA-4FCF-86E3-6599ED9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40E3-0EAF-4D47-AA30-77AE2C8E5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M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 glar-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happ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379200">
            <a:off x="6562800" y="371160"/>
            <a:ext cx="68904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450000">
            <a:off x="5943600" y="3809520"/>
            <a:ext cx="2362320" cy="2330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1854360" cy="118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6035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-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group of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re-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02360" y="1981080"/>
            <a:ext cx="270036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1:49:19Z</dcterms:modified>
  <cp:revision>6</cp:revision>
  <dc:subject/>
  <dc:title>PowerPoint Presentation</dc:title>
</cp:coreProperties>
</file>